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958-0EDA-4D16-BE4A-50204DB4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69D-EA51-4AF9-9969-AAFA24F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288-2167-42C5-98FF-66BC011E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C43-736F-4604-A906-2EBD6FF3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0C1-19D2-4822-A0CA-A9BE29A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0CE-1E44-4FC4-A018-F83F842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83D-5B24-4323-BE26-AF249A8B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E6A-0449-4717-B4CA-AE4AF76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FF5-A5B6-4D40-9443-1DEC811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B3A-20E4-4683-9A9A-5363BB62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9D2-8E80-48C3-AA41-80C11E5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D58-0523-4C9E-8E8B-0CBEB42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D02-8E34-488C-86B8-A70528B0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2800" y="2163600"/>
            <a:ext cx="7981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iettiv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9040" y="716040"/>
            <a:ext cx="1113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etto di Z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2976480"/>
            <a:ext cx="798120" cy="246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iettivo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5040" y="3459240"/>
            <a:ext cx="819360" cy="246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iettivo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1" idx="1"/>
          </p:cNvCxnSpPr>
          <p:nvPr/>
        </p:nvCxnSpPr>
        <p:spPr>
          <a:xfrm flipH="1" rot="16200000">
            <a:off x="497160" y="1530720"/>
            <a:ext cx="1324800" cy="187560"/>
          </a:xfrm>
          <a:prstGeom prst="bentConnector4">
            <a:avLst>
              <a:gd name="adj1" fmla="val 45365"/>
              <a:gd name="adj2" fmla="val -240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3" idx="1"/>
          </p:cNvCxnSpPr>
          <p:nvPr/>
        </p:nvCxnSpPr>
        <p:spPr>
          <a:xfrm flipH="1" rot="16200000">
            <a:off x="93600" y="1933920"/>
            <a:ext cx="2137680" cy="193680"/>
          </a:xfrm>
          <a:prstGeom prst="bentConnector4">
            <a:avLst>
              <a:gd name="adj1" fmla="val 47128"/>
              <a:gd name="adj2" fmla="val -20111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" name=""/>
          <p:cNvCxnSpPr>
            <a:stCxn id="42" idx="2"/>
            <a:endCxn id="44" idx="1"/>
          </p:cNvCxnSpPr>
          <p:nvPr/>
        </p:nvCxnSpPr>
        <p:spPr>
          <a:xfrm flipH="1" rot="16200000">
            <a:off x="-144720" y="2172600"/>
            <a:ext cx="2620440" cy="199800"/>
          </a:xfrm>
          <a:prstGeom prst="bentConnector4">
            <a:avLst>
              <a:gd name="adj1" fmla="val 47664"/>
              <a:gd name="adj2" fmla="val -16064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8" name=""/>
          <p:cNvSpPr/>
          <p:nvPr/>
        </p:nvSpPr>
        <p:spPr>
          <a:xfrm>
            <a:off x="3251160" y="2392200"/>
            <a:ext cx="11271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tto Obiettiv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57280" y="3146400"/>
            <a:ext cx="11271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tto Obiettiv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3760" y="3890880"/>
            <a:ext cx="11271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tto Obiettiv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3"/>
            <a:endCxn id="50" idx="1"/>
          </p:cNvCxnSpPr>
          <p:nvPr/>
        </p:nvCxnSpPr>
        <p:spPr>
          <a:xfrm>
            <a:off x="2050920" y="2286720"/>
            <a:ext cx="1213200" cy="17276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1" idx="3"/>
            <a:endCxn id="49" idx="1"/>
          </p:cNvCxnSpPr>
          <p:nvPr/>
        </p:nvCxnSpPr>
        <p:spPr>
          <a:xfrm>
            <a:off x="2050920" y="2286720"/>
            <a:ext cx="1206720" cy="983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1" idx="3"/>
            <a:endCxn id="48" idx="1"/>
          </p:cNvCxnSpPr>
          <p:nvPr/>
        </p:nvCxnSpPr>
        <p:spPr>
          <a:xfrm>
            <a:off x="2050920" y="2286720"/>
            <a:ext cx="1200600" cy="228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027120" y="2971800"/>
            <a:ext cx="10724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a L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240" y="3425760"/>
            <a:ext cx="1093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a E/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960" y="3879720"/>
            <a:ext cx="10861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a R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31800" y="4336920"/>
            <a:ext cx="117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. Cons.Z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8" idx="3"/>
            <a:endCxn id="57" idx="1"/>
          </p:cNvCxnSpPr>
          <p:nvPr/>
        </p:nvCxnSpPr>
        <p:spPr>
          <a:xfrm>
            <a:off x="4378320" y="2515320"/>
            <a:ext cx="1653840" cy="1945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1"/>
          </p:cNvCxnSpPr>
          <p:nvPr/>
        </p:nvCxnSpPr>
        <p:spPr>
          <a:xfrm>
            <a:off x="4378320" y="2515320"/>
            <a:ext cx="1656000" cy="14878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8" idx="3"/>
            <a:endCxn id="55" idx="1"/>
          </p:cNvCxnSpPr>
          <p:nvPr/>
        </p:nvCxnSpPr>
        <p:spPr>
          <a:xfrm>
            <a:off x="4378320" y="2515320"/>
            <a:ext cx="1655280" cy="1033920"/>
          </a:xfrm>
          <a:prstGeom prst="bentConnector3">
            <a:avLst>
              <a:gd name="adj1" fmla="val 500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8" idx="3"/>
            <a:endCxn id="54" idx="1"/>
          </p:cNvCxnSpPr>
          <p:nvPr/>
        </p:nvCxnSpPr>
        <p:spPr>
          <a:xfrm>
            <a:off x="4378320" y="2515320"/>
            <a:ext cx="1649160" cy="579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1828800" y="639720"/>
            <a:ext cx="38862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MPITI E FUNZIONI DELLA Z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Formazione sul metodo e sulla persona per la crescita del Ca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fronto delle esperien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Qualità della proposta educativa (Gruppo, Unità, Capo-Ragazz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Sviluppo/tenuta scautismo sul terri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tutto con CONCRETEZZA e con il maggior RISCONTRO TANGIBILE possibile da parte dei Capi e delle CoCa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4685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 Sapersi muovere ovunque in biciclet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10120" y="2681280"/>
            <a:ext cx="201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 Conoscere la bicicletta, conosc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 muscoli del corpo interess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5080" y="3443400"/>
            <a:ext cx="16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 Saper orientarsi, saper f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nutenzione alla b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4145040"/>
            <a:ext cx="17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 Fare esperienze, miglior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gressivamente l’autonom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2666880"/>
            <a:ext cx="2133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1° anno: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 com’è fatta una bici, com’è fatto il corpo umano --&gt; incontro con un esperto, recuperare i pezzi e montare una b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2° anno: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 conoscere la topografia, usare i relativi strumenti, allestire una bici --&gt; orientiring, prime esperienze in bici nel quart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3° anno: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 allenarsi, effettuare un’esperienza importante --&gt; recuperare gli strumenti necessari per un lungo viaggio, piano di allenamenti con un trainer, studiare il percorso, route a Capo N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4040" y="3916440"/>
            <a:ext cx="8589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ri obie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1"/>
            <a:endCxn id="42" idx="1"/>
          </p:cNvCxnSpPr>
          <p:nvPr/>
        </p:nvCxnSpPr>
        <p:spPr>
          <a:xfrm rot="10800000">
            <a:off x="508680" y="839160"/>
            <a:ext cx="765360" cy="3200760"/>
          </a:xfrm>
          <a:prstGeom prst="bentConnector3">
            <a:avLst>
              <a:gd name="adj1" fmla="val 1303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1609560" y="594360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URIENNA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o 4 an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 rot="5400000">
            <a:off x="2514600" y="3505320"/>
            <a:ext cx="380880" cy="4495680"/>
          </a:xfrm>
          <a:custGeom>
            <a:avLst/>
            <a:gdLst>
              <a:gd name="textAreaLeft" fmla="*/ 0 w 380880"/>
              <a:gd name="textAreaRight" fmla="*/ 137520 w 3808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47000" y="5943600"/>
            <a:ext cx="27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UA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ssemblea di inizio an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 rot="5400000">
            <a:off x="6421320" y="461016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7080" y="152280"/>
            <a:ext cx="53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n’idea sulla struttura del Progetto di Zona 2002-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314480" y="259092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104"/>
                </a:lnTo>
                <a:cubicBezTo>
                  <a:pt x="10800" y="4004"/>
                  <a:pt x="16200" y="4904"/>
                  <a:pt x="21600" y="4904"/>
                </a:cubicBezTo>
                <a:cubicBezTo>
                  <a:pt x="16200" y="4904"/>
                  <a:pt x="10800" y="5804"/>
                  <a:pt x="10800" y="67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2680" y="6354720"/>
            <a:ext cx="20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 scritte in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rsiv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sono ESEM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629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716040"/>
            <a:ext cx="32767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Il Progetto di Zona deve rispondere alle doman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me e su cosa vogliamo che crescano i Capi di Milano come persone ed educatori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me e su cosa vogliamo che crescano le CoC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me vogliamo che cresca la nostra Associazione nel territorio di Milan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876240"/>
            <a:ext cx="838440" cy="762120"/>
          </a:xfrm>
          <a:prstGeom prst="rightArrow">
            <a:avLst>
              <a:gd name="adj1" fmla="val 50000"/>
              <a:gd name="adj2" fmla="val 4417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8080" y="2011320"/>
            <a:ext cx="1676520" cy="3065400"/>
            <a:chOff x="838080" y="2011320"/>
            <a:chExt cx="1676520" cy="3065400"/>
          </a:xfrm>
        </p:grpSpPr>
        <p:sp>
          <p:nvSpPr>
            <p:cNvPr id="81" name=""/>
            <p:cNvSpPr/>
            <p:nvPr/>
          </p:nvSpPr>
          <p:spPr>
            <a:xfrm>
              <a:off x="838080" y="2011320"/>
              <a:ext cx="1676520" cy="251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4525920"/>
              <a:ext cx="1676520" cy="550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MENTI - ATTENZIONI - PERCORS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71800" y="2011320"/>
            <a:ext cx="2361960" cy="3425400"/>
            <a:chOff x="2971800" y="2011320"/>
            <a:chExt cx="2361960" cy="3425400"/>
          </a:xfrm>
        </p:grpSpPr>
        <p:sp>
          <p:nvSpPr>
            <p:cNvPr id="84" name=""/>
            <p:cNvSpPr/>
            <p:nvPr/>
          </p:nvSpPr>
          <p:spPr>
            <a:xfrm>
              <a:off x="2971800" y="2011320"/>
              <a:ext cx="2361960" cy="264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4656960"/>
              <a:ext cx="2361960" cy="779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Decidere se i Sottobiettivi devono avere un percorso logico-cronologico (come nell’esempio) oppure possono essere interscambiabili all’interno della durata del Progetto di Zo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533520"/>
            <a:ext cx="472428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 Black"/>
              </a:rPr>
              <a:t>BRANCA L/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Esigenze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eguire uno schema di lavoro uguale per ogni anno, ovvero avere un primo incontro di progettualità, finalizzato a decidere contenuti dell’anno secondo esigenze concrete, dividendo e strutturando i successivi incontri. Avere resoconti delle riunioni in modo da arrivare preparati la volta successiva e in modo da avere alla fine dell’anno qualcosa di concreto da conservare. Tutto questo eventualmente aiutando a turno IAB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on avere duplicazioni di ruolo tra zona e Co.Ca in merito ai contenuti e alle proposte, ad es: il PdC  solo incontro tirocinanti e in Co.Ca. che deve essere garante del progetto e delle scelte di vita di ogni cap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on puntare solo su evento ma su problemi di metodo in modo da acquisire conoscenze e materiale che può essere utile in situazioni future, una specie di prontuario del metodo applica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utto ciò per arrivare ad essere consapevoli e capaci e dunque soddisfatti del lavoro fatto e più motivati per l’anno success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Strument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rola chiave è clima: introdurre riunioni, assemblee et similia con un momento ludico o comunque vivacizzare gli incontri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igura centrale rimane Iabz che deve essere in grado di suscitare fiducia e convinzione nei capi e concretezza nelle cose da fa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iuti da esterno in termini di confronto con persone che fanno scelte forti o che sono competenti in problematiche specifiche dell’essere educatore, capo giovane, persona che riceve molti imput dall’ester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utonomia delle sottozone in termini di scadenze e gestione del tempo anche in vista dell’even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idare peso a figura dell’ AE, possibilità di poter contare sempre su un AE magari di riferimento per ogni branca o addirittura per ogni sottozona, magari che partecipi a qualche riunione di zon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contri di formazione extra (per elezioni, guerra,…) ben accetti purchè non troppi o troppo dispersivi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Oltre L/C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rticolare attenzione alla gestione dei clan e noviziati in comu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573120"/>
            <a:ext cx="44956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 Black"/>
              </a:rPr>
              <a:t>BRANCA E/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Rilanciare la necessità di educare alle scelte for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) PPU: come educare alla Partenza nelle 3 bran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) Riscoprire gli strumenti del metodo relativi alla responsabilit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) Puntare l’attenzione sulla realtà che circonda il ragazzo e capire che parte ha lo scaut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) Partenza: 3 o 4 anni? Partire con una sperimentazione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Impegnarci ad approfondire e sostenere la nostra vocazione di C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) Tutor: approfondimento ed importanza del suo ruo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) Usare gli strumenti della CoCa nuova nelle CoCa e in 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Terri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) Mantenimento dei gruppi a Milano: riflessioni sulla diarchia, sull’iter di formazione, ec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) Quali rapporti con le altre religioni e le altre culture: trovare strumenti per i Capi (confronto, sperimentazioni 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) La scelta politica: più incisiva in branca L/C e E/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) Mappatura delle sensibilità dei gruppi sui loro territori (confronto dei PE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982960"/>
            <a:ext cx="388620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 Black"/>
              </a:rPr>
              <a:t>BRANCA R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Rilanciare la necessità di educare alle scelte for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) Lavorare sullo st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) Rilanciare Work Shop e Scuola della Paro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Impegnarci ad approfondire e sostenere la nostra vocazione di C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Terri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) Monitoraggio servizi extra-associati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) Collaborazione dell’AGESCI con altre agenzie educ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) Animazione della Chiesa di S.Vito al Pasquiro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52280"/>
            <a:ext cx="952524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itorni dall’Assemblea di Zona del 11 ottobr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4802040"/>
            <a:ext cx="952524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Compiti a casa” per le CoCa --&gt; da far arrivare al Comitato di Zona entro il 31 dicembr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208480"/>
            <a:ext cx="4800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1)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RIQUALIFICAZIONE DEI “BISOGNI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spondere alla domanda “Perché abbiamo scelto questi obiettivi?!” ovvero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lanciare la necessità di educare alle scelte forti ed alla responsabilità, continuando lo sforzo di attenzione al "cammino verso …" e al momento della Partenza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egnarci ad approfondire e sostenere nel tempo la nostra vocazione di Capi, la scelta che rinnoviamo ogni giorno che dona fatica, orgoglio, gioia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egnarci a dare testimonianza dello scoutismo e dei suoi valori nel territorio, sia cercando di promuoverne lo sviluppo (attraverso anche una maggiore comunicazione tra i gruppi), sia relazionandosi maggiormente con le realtà cittadine civili ed ecclesiali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5208480"/>
            <a:ext cx="4952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2)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SOTTOBIETTIVI + Programma + “Attenzioni, strumenti, percorsi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nsare ai SOTTOBIETTIVI relativi a ciascun obiettivo del Progetto di Zon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nsare a eventuali nuovi OBIETTIVI con i relativi SOTTOBIETTI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nsare ad idee di Programma per il 1° e 2° anno relativamente alla propria Branca (sarà oggetto di approfondimento nel corso del Convegno, dopo l’approvazione del Progetto di Zona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leggere, valutare e eventualmente aggiungere le indicazioni che sono state qualificate come “Strumenti, Percorsi e Attenzioni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3:22:56Z</dcterms:created>
  <dc:creator>ppatrone</dc:creator>
  <dc:description/>
  <dc:language>en-US</dc:language>
  <cp:lastModifiedBy>ppatrone</cp:lastModifiedBy>
  <cp:lastPrinted>2001-11-15T16:30:17Z</cp:lastPrinted>
  <dcterms:modified xsi:type="dcterms:W3CDTF">2001-11-15T16:35:09Z</dcterms:modified>
  <cp:revision>16</cp:revision>
  <dc:subject/>
  <dc:title>Nessun titolo diapositiva</dc:title>
</cp:coreProperties>
</file>